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7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9.jpeg" ContentType="image/jpeg"/>
  <Override PartName="/ppt/media/image11.jpeg" ContentType="image/jpeg"/>
  <Override PartName="/ppt/media/image31.png" ContentType="image/pn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6.png" ContentType="image/png"/>
  <Override PartName="/ppt/media/image37.png" ContentType="image/png"/>
  <Override PartName="/ppt/media/image38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0.png" ContentType="image/pn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D4BB-F9AA-4EFE-A6D7-E6DFBE4D2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E4ED-0D3C-42CA-A334-4D6D0D48E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B94-6F9D-4FF9-B632-279D0A385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8773-E528-4390-911C-5375B2755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9867-D335-4D39-BEEB-8803DED8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5BBF6-CAAA-43A3-8683-6EBC874FB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B69C-76C2-4245-B244-13A35CDE5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EE33-0C5C-49D4-9B78-302AF224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5999-6FDB-44D7-81E7-563051A65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A129-B20E-4DDB-AEDC-B36A4E5C6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97B18-431B-40C4-9858-242EFDB8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D42B-DC4B-41E1-A327-325C6603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40543-C9C3-4D20-B7E1-09BE4A6EE15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svetlanatolkova@mail.ru" TargetMode="External"/><Relationship Id="rId2" Type="http://schemas.openxmlformats.org/officeDocument/2006/relationships/hyperlink" Target="mailto:svetlanatolkova@mail.ru" TargetMode="External"/><Relationship Id="rId3" Type="http://schemas.openxmlformats.org/officeDocument/2006/relationships/hyperlink" Target="mailto:svetlanatolkova@mail.ru" TargetMode="External"/><Relationship Id="rId4" Type="http://schemas.openxmlformats.org/officeDocument/2006/relationships/hyperlink" Target="mailto:zhelenok.irina@gmail.com" TargetMode="Externa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360" y="144360"/>
            <a:ext cx="6302520" cy="155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роект по спортивно -оздоровительному направлению совместно с родителями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«Будем вместе!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»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1557720"/>
            <a:ext cx="6929280" cy="78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Arial"/>
              </a:rPr>
              <a:t>ГБОУ СОШ № 8 им.С.П. АЛЕКСЕЕВА   г.о. Отрад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6" descr="Корпус №2 (основная, средняя школа)"/>
          <p:cNvPicPr/>
          <p:nvPr/>
        </p:nvPicPr>
        <p:blipFill>
          <a:blip r:embed="rId2"/>
          <a:stretch/>
        </p:blipFill>
        <p:spPr>
          <a:xfrm>
            <a:off x="0" y="2071800"/>
            <a:ext cx="9144000" cy="5143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C:\Users\123\Downloads\6loISxT736.jpg"/>
          <p:cNvPicPr/>
          <p:nvPr/>
        </p:nvPicPr>
        <p:blipFill>
          <a:blip r:embed="rId3"/>
          <a:stretch/>
        </p:blipFill>
        <p:spPr>
          <a:xfrm>
            <a:off x="6730920" y="65160"/>
            <a:ext cx="2413080" cy="17064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Фотоконкурс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«Самая спортивная семь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C:\Users\123\Desktop\фото самая спортивная семья\DSC04066.JPG"/>
          <p:cNvPicPr/>
          <p:nvPr/>
        </p:nvPicPr>
        <p:blipFill>
          <a:blip r:embed="rId1"/>
          <a:stretch/>
        </p:blipFill>
        <p:spPr>
          <a:xfrm rot="317400">
            <a:off x="5347800" y="3190680"/>
            <a:ext cx="3764160" cy="3770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C:\Users\123\Desktop\фото самая спортивная семья\P1080199.jpg"/>
          <p:cNvPicPr/>
          <p:nvPr/>
        </p:nvPicPr>
        <p:blipFill>
          <a:blip r:embed="rId2"/>
          <a:stretch/>
        </p:blipFill>
        <p:spPr>
          <a:xfrm rot="21227400">
            <a:off x="81000" y="3860280"/>
            <a:ext cx="3832200" cy="28735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Users\123\Desktop\фото самая спортивная семья\фото.jpg"/>
          <p:cNvPicPr/>
          <p:nvPr/>
        </p:nvPicPr>
        <p:blipFill>
          <a:blip r:embed="rId3"/>
          <a:stretch/>
        </p:blipFill>
        <p:spPr>
          <a:xfrm>
            <a:off x="5927760" y="1222200"/>
            <a:ext cx="2978280" cy="19846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C:\Users\123\Desktop\фото самая спортивная семья\фото 2.jpg"/>
          <p:cNvPicPr/>
          <p:nvPr/>
        </p:nvPicPr>
        <p:blipFill>
          <a:blip r:embed="rId4"/>
          <a:stretch/>
        </p:blipFill>
        <p:spPr>
          <a:xfrm rot="20947800">
            <a:off x="111240" y="1501560"/>
            <a:ext cx="3168360" cy="211284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7" descr="C:\Users\123\Downloads\IMG_20191114_120147.jpg"/>
          <p:cNvPicPr/>
          <p:nvPr/>
        </p:nvPicPr>
        <p:blipFill>
          <a:blip r:embed="rId5"/>
          <a:stretch/>
        </p:blipFill>
        <p:spPr>
          <a:xfrm rot="21363000">
            <a:off x="2987280" y="1412640"/>
            <a:ext cx="3384720" cy="277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755640" y="17280"/>
            <a:ext cx="8229600" cy="80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ru-RU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ЫВОД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роведя анализ анкетирования в начале и в конце года,  можно сделать выводы, что  физкультурно-оздоровительная деятельность на основе досугов и развлечений совместно с родителями принесла определенные результаты: родители стали принимать активное участие в спортивной деятельности своих детей, овладели в достаточной степени системой знаний, необходимых для формирования физической культуры у детей по некоторым вопросам физкультурно – оздоровительной работы: закаливание, использование разнообразных форм проведения активного отдыха вместе с детьми, обязательное проведение утренней гимнастики дома вместе с детьми, профилактика нарушения осанки и плоскостоп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лагодаря  мероприятиям по совместной деятельности взрослых  с детьми, дети  без всяких затруднений общаются со сверстниками и взрослыми, больше обращают внимание на советы родителей, а родители в то же время стали больше уделять внимание своим детя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Объект 3" descr=""/>
          <p:cNvPicPr/>
          <p:nvPr/>
        </p:nvPicPr>
        <p:blipFill>
          <a:blip r:embed="rId1"/>
          <a:stretch/>
        </p:blipFill>
        <p:spPr>
          <a:xfrm>
            <a:off x="19080" y="-6480"/>
            <a:ext cx="4486320" cy="3299040"/>
          </a:xfrm>
          <a:prstGeom prst="rect">
            <a:avLst/>
          </a:prstGeom>
          <a:ln w="0">
            <a:noFill/>
          </a:ln>
        </p:spPr>
      </p:pic>
      <p:pic>
        <p:nvPicPr>
          <p:cNvPr id="88" name="Диаграмма 4" descr=""/>
          <p:cNvPicPr/>
          <p:nvPr/>
        </p:nvPicPr>
        <p:blipFill>
          <a:blip r:embed="rId2"/>
          <a:stretch/>
        </p:blipFill>
        <p:spPr>
          <a:xfrm>
            <a:off x="4492800" y="3352680"/>
            <a:ext cx="4657680" cy="3249720"/>
          </a:xfrm>
          <a:prstGeom prst="rect">
            <a:avLst/>
          </a:prstGeom>
          <a:ln w="0">
            <a:noFill/>
          </a:ln>
        </p:spPr>
      </p:pic>
      <p:pic>
        <p:nvPicPr>
          <p:cNvPr id="89" name="Диаграмма 5" descr=""/>
          <p:cNvPicPr/>
          <p:nvPr/>
        </p:nvPicPr>
        <p:blipFill>
          <a:blip r:embed="rId3"/>
          <a:stretch/>
        </p:blipFill>
        <p:spPr>
          <a:xfrm>
            <a:off x="4565520" y="-6480"/>
            <a:ext cx="4584960" cy="329904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6" descr=""/>
          <p:cNvPicPr/>
          <p:nvPr/>
        </p:nvPicPr>
        <p:blipFill>
          <a:blip r:embed="rId4"/>
          <a:stretch/>
        </p:blipFill>
        <p:spPr>
          <a:xfrm>
            <a:off x="-6480" y="3352680"/>
            <a:ext cx="4438800" cy="339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Объект 3" descr=""/>
          <p:cNvPicPr/>
          <p:nvPr/>
        </p:nvPicPr>
        <p:blipFill>
          <a:blip r:embed="rId1"/>
          <a:stretch/>
        </p:blipFill>
        <p:spPr>
          <a:xfrm>
            <a:off x="103320" y="109440"/>
            <a:ext cx="4620960" cy="3194280"/>
          </a:xfrm>
          <a:prstGeom prst="rect">
            <a:avLst/>
          </a:prstGeom>
          <a:ln w="0">
            <a:noFill/>
          </a:ln>
        </p:spPr>
      </p:pic>
      <p:pic>
        <p:nvPicPr>
          <p:cNvPr id="92" name="Диаграмма 4" descr=""/>
          <p:cNvPicPr/>
          <p:nvPr/>
        </p:nvPicPr>
        <p:blipFill>
          <a:blip r:embed="rId2"/>
          <a:stretch/>
        </p:blipFill>
        <p:spPr>
          <a:xfrm>
            <a:off x="4780080" y="182520"/>
            <a:ext cx="4260600" cy="3060720"/>
          </a:xfrm>
          <a:prstGeom prst="rect">
            <a:avLst/>
          </a:prstGeom>
          <a:ln w="0">
            <a:noFill/>
          </a:ln>
        </p:spPr>
      </p:pic>
      <p:pic>
        <p:nvPicPr>
          <p:cNvPr id="93" name="Диаграмма 5" descr=""/>
          <p:cNvPicPr/>
          <p:nvPr/>
        </p:nvPicPr>
        <p:blipFill>
          <a:blip r:embed="rId3"/>
          <a:stretch/>
        </p:blipFill>
        <p:spPr>
          <a:xfrm>
            <a:off x="103320" y="3352680"/>
            <a:ext cx="4620960" cy="3395880"/>
          </a:xfrm>
          <a:prstGeom prst="rect">
            <a:avLst/>
          </a:prstGeom>
          <a:ln w="0">
            <a:noFill/>
          </a:ln>
        </p:spPr>
      </p:pic>
      <p:pic>
        <p:nvPicPr>
          <p:cNvPr id="94" name="Диаграмма 6" descr=""/>
          <p:cNvPicPr/>
          <p:nvPr/>
        </p:nvPicPr>
        <p:blipFill>
          <a:blip r:embed="rId4"/>
          <a:stretch/>
        </p:blipFill>
        <p:spPr>
          <a:xfrm>
            <a:off x="4780080" y="3352680"/>
            <a:ext cx="4192560" cy="3322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Объект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4407120" cy="3110040"/>
          </a:xfrm>
          <a:prstGeom prst="rect">
            <a:avLst/>
          </a:prstGeom>
          <a:ln w="0">
            <a:noFill/>
          </a:ln>
        </p:spPr>
      </p:pic>
      <p:pic>
        <p:nvPicPr>
          <p:cNvPr id="96" name="Диаграмма 4" descr=""/>
          <p:cNvPicPr/>
          <p:nvPr/>
        </p:nvPicPr>
        <p:blipFill>
          <a:blip r:embed="rId2"/>
          <a:stretch/>
        </p:blipFill>
        <p:spPr>
          <a:xfrm>
            <a:off x="4638600" y="182520"/>
            <a:ext cx="4260960" cy="3110040"/>
          </a:xfrm>
          <a:prstGeom prst="rect">
            <a:avLst/>
          </a:prstGeom>
          <a:ln w="0">
            <a:noFill/>
          </a:ln>
        </p:spPr>
      </p:pic>
      <p:pic>
        <p:nvPicPr>
          <p:cNvPr id="97" name="Диаграмма 5" descr=""/>
          <p:cNvPicPr/>
          <p:nvPr/>
        </p:nvPicPr>
        <p:blipFill>
          <a:blip r:embed="rId3"/>
          <a:stretch/>
        </p:blipFill>
        <p:spPr>
          <a:xfrm>
            <a:off x="1689120" y="3425760"/>
            <a:ext cx="540684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820440" y="-360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Авторы программ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Толкова Светлана Викторовна  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svetlanatolkova@mail</a:t>
            </a:r>
            <a:r>
              <a:rPr b="0" lang="ru-RU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.</a:t>
            </a: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r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92769377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Желенок Ирина Николаев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zhelenok.irina@gmail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Arial"/>
              </a:rPr>
              <a:t>892779747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C:\Users\123\Downloads\6loISxT736.jpg"/>
          <p:cNvPicPr/>
          <p:nvPr/>
        </p:nvPicPr>
        <p:blipFill>
          <a:blip r:embed="rId5"/>
          <a:stretch/>
        </p:blipFill>
        <p:spPr>
          <a:xfrm>
            <a:off x="2809800" y="4005360"/>
            <a:ext cx="3722760" cy="2630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7120" y="0"/>
            <a:ext cx="678672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"/>
              </a:rPr>
              <a:t>Программа «Будем вместе</a:t>
            </a: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85480" y="1142640"/>
            <a:ext cx="8372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Цель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лучшение активного взаимодействия между семьей и школой в процессе физического воспитания младших школьников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Задач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рмирование способностей самостоятельной физкультурно- спортивной деятельности детей и родителе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лучшение взаимоотношений детей и родителей в условиях семь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богащать детско-родительские взаимоотношения при проведении совместных мероприятий, уделяя при этом особое внимание сохранению и укреплению физического здоровья детей школьного возраста средствами спортивных мероприят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вышение компетенции родителей в физическом развитии и воспитании ребёнка</a:t>
            </a:r>
            <a:r>
              <a:rPr b="0" lang="ru-RU" sz="20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7072200" y="65160"/>
            <a:ext cx="1963800" cy="138888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280" y="260280"/>
            <a:ext cx="572940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00"/>
                </a:solidFill>
                <a:latin typeface="Arial"/>
              </a:rPr>
              <a:t>Формы и методы реализации</a:t>
            </a: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428760" y="1706400"/>
            <a:ext cx="3708360" cy="2575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Коллективны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ительские собр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ечер вопросов и ответ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ставки и презентаци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2"/>
          <p:cNvSpPr/>
          <p:nvPr/>
        </p:nvSpPr>
        <p:spPr>
          <a:xfrm>
            <a:off x="4643280" y="1700280"/>
            <a:ext cx="3961080" cy="2581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Индивидуаль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    ребенка и родителей на занят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ое выполн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1476360" y="4581360"/>
            <a:ext cx="5321160" cy="2024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c000"/>
                </a:solidFill>
                <a:uFillTx/>
                <a:latin typeface="Times New Roman"/>
                <a:ea typeface="Times New Roman"/>
              </a:rPr>
              <a:t>Наглядно- информационны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Букл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c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Фотоотче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964200" y="65160"/>
            <a:ext cx="2071800" cy="14652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765000"/>
            <a:ext cx="79567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Этапы реализации проекта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268280"/>
            <a:ext cx="8229600" cy="68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 – организацион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явление запросов родителей по данному направ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нализ литературных источников, материалов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нализ уровня физического развития и здоровья дете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Анкетирование родителей; дет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ыявление уровня знаний родителей по физкультурно-оздоровительному направлению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тановка цели и формулирование задач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300720" y="4508640"/>
            <a:ext cx="2411640" cy="1706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</a:rPr>
              <a:t>Этапы реализации проект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84360" y="1125360"/>
            <a:ext cx="8229600" cy="683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I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 – подготовительн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работка календарно-тематического плана работы с детьми и плана работы с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Обсуждение плана работы с родителям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азработка совместных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156360" y="4724280"/>
            <a:ext cx="241308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5560" y="836640"/>
            <a:ext cx="8229600" cy="5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06812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II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 – основной – практически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учителя по физкультуре и детей в рам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рганизация непосредственно организованной образовательной деятельности, спортивных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учителя по физкультуре с родите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рганизация взаимодействия детей и родителей по плану реализации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проведение развлечений, досугов, праз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родительские собрания, беседы, вст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формление стенд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940440" y="5292720"/>
            <a:ext cx="220356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764640"/>
            <a:ext cx="8229600" cy="52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"/>
              </a:rPr>
              <a:t>Этапы реализации проекта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5840" y="119700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IV </a:t>
            </a:r>
            <a:r>
              <a:rPr b="0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этап – итоговый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учителя по физкультуре и детей в рамках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рганизация непосредственно организованной образовательной деятельности, спортивных мероприят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овместная деятельность учителя по физкультуре с родителя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рганизация взаимодействия детей и родителей по плану реализации проект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проведение развлечений, досугов, празд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родительские собрания, беседы, встре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24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- оформление стендовой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c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C:\Users\123\Downloads\6loISxT736.jpg"/>
          <p:cNvPicPr/>
          <p:nvPr/>
        </p:nvPicPr>
        <p:blipFill>
          <a:blip r:embed="rId1"/>
          <a:stretch/>
        </p:blipFill>
        <p:spPr>
          <a:xfrm>
            <a:off x="6919920" y="5222880"/>
            <a:ext cx="2241720" cy="158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80084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Arial"/>
              </a:rPr>
              <a:t>«Наши мероприятия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C:\Users\Ирина\Downloads\0019-018-Sportivnaja-igra-Zov-dzhunglej.jpg"/>
          <p:cNvPicPr/>
          <p:nvPr/>
        </p:nvPicPr>
        <p:blipFill>
          <a:blip r:embed="rId1"/>
          <a:stretch/>
        </p:blipFill>
        <p:spPr>
          <a:xfrm>
            <a:off x="0" y="668160"/>
            <a:ext cx="2592360" cy="1941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http://raketads6.ru/wp-content/uploads/2013/04/IMG_6584.jpg"/>
          <p:cNvPicPr/>
          <p:nvPr/>
        </p:nvPicPr>
        <p:blipFill>
          <a:blip r:embed="rId2"/>
          <a:stretch/>
        </p:blipFill>
        <p:spPr>
          <a:xfrm>
            <a:off x="2438280" y="546120"/>
            <a:ext cx="3303720" cy="2184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F:\IMG_1260.jpg"/>
          <p:cNvPicPr/>
          <p:nvPr/>
        </p:nvPicPr>
        <p:blipFill>
          <a:blip r:embed="rId3"/>
          <a:stretch/>
        </p:blipFill>
        <p:spPr>
          <a:xfrm>
            <a:off x="5724360" y="668160"/>
            <a:ext cx="3251520" cy="243864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8" descr="F:\IMG_20180907_091659.jpg"/>
          <p:cNvPicPr/>
          <p:nvPr/>
        </p:nvPicPr>
        <p:blipFill>
          <a:blip r:embed="rId4"/>
          <a:stretch/>
        </p:blipFill>
        <p:spPr>
          <a:xfrm>
            <a:off x="0" y="2416320"/>
            <a:ext cx="2700360" cy="2033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5"/>
          <a:stretch/>
        </p:blipFill>
        <p:spPr>
          <a:xfrm>
            <a:off x="250920" y="4335480"/>
            <a:ext cx="1873080" cy="2492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0" descr=""/>
          <p:cNvPicPr/>
          <p:nvPr/>
        </p:nvPicPr>
        <p:blipFill>
          <a:blip r:embed="rId6"/>
          <a:stretch/>
        </p:blipFill>
        <p:spPr>
          <a:xfrm>
            <a:off x="2709720" y="2492280"/>
            <a:ext cx="2149560" cy="2865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2" descr="C:\Users\123\Desktop\фото самая спортивная семья\IMG-b672fe2ff8a5cb8617293489e712f06b-V.jpg"/>
          <p:cNvPicPr/>
          <p:nvPr/>
        </p:nvPicPr>
        <p:blipFill>
          <a:blip r:embed="rId7"/>
          <a:stretch/>
        </p:blipFill>
        <p:spPr>
          <a:xfrm>
            <a:off x="4859280" y="2857680"/>
            <a:ext cx="4116600" cy="359568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3" descr="C:\Users\123\Desktop\фото самая спортивная семья\IMG-c8d3e50198c5c1c5359c9fe05d61fdb5-V (1).jpg"/>
          <p:cNvPicPr/>
          <p:nvPr/>
        </p:nvPicPr>
        <p:blipFill>
          <a:blip r:embed="rId8"/>
          <a:stretch/>
        </p:blipFill>
        <p:spPr>
          <a:xfrm>
            <a:off x="2544840" y="4915080"/>
            <a:ext cx="2747880" cy="1728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Моя семья на отдых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C:\Users\Ирина\Desktop\P1120007.jpg"/>
          <p:cNvPicPr/>
          <p:nvPr/>
        </p:nvPicPr>
        <p:blipFill>
          <a:blip r:embed="rId1"/>
          <a:stretch/>
        </p:blipFill>
        <p:spPr>
          <a:xfrm rot="346200">
            <a:off x="4711320" y="3676320"/>
            <a:ext cx="3986280" cy="2989080"/>
          </a:xfrm>
          <a:prstGeom prst="rect">
            <a:avLst/>
          </a:prstGeom>
          <a:ln w="0">
            <a:noFill/>
          </a:ln>
        </p:spPr>
      </p:pic>
      <p:pic>
        <p:nvPicPr>
          <p:cNvPr id="76" name="Содержимое 6" descr="C:\Users\Ирина\AppData\Local\Microsoft\Windows\INetCache\Content.Word\kartinki_moya_semya_dlya_detskogo_sada_18_30201108.jpg"/>
          <p:cNvPicPr/>
          <p:nvPr/>
        </p:nvPicPr>
        <p:blipFill>
          <a:blip r:embed="rId2"/>
          <a:stretch/>
        </p:blipFill>
        <p:spPr>
          <a:xfrm rot="20907600">
            <a:off x="244080" y="3919680"/>
            <a:ext cx="3770280" cy="28270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12474493"/>
          <p:cNvPicPr/>
          <p:nvPr/>
        </p:nvPicPr>
        <p:blipFill>
          <a:blip r:embed="rId3"/>
          <a:stretch/>
        </p:blipFill>
        <p:spPr>
          <a:xfrm rot="695400">
            <a:off x="5462280" y="925200"/>
            <a:ext cx="3808440" cy="2857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detsad-751629-1492371219"/>
          <p:cNvPicPr/>
          <p:nvPr/>
        </p:nvPicPr>
        <p:blipFill>
          <a:blip r:embed="rId4"/>
          <a:stretch/>
        </p:blipFill>
        <p:spPr>
          <a:xfrm rot="229800">
            <a:off x="100080" y="851040"/>
            <a:ext cx="4182840" cy="31320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7" descr="DSC09983"/>
          <p:cNvPicPr/>
          <p:nvPr/>
        </p:nvPicPr>
        <p:blipFill>
          <a:blip r:embed="rId5"/>
          <a:stretch/>
        </p:blipFill>
        <p:spPr>
          <a:xfrm rot="20855400">
            <a:off x="3341520" y="2284200"/>
            <a:ext cx="2881440" cy="2160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3T15:57:31Z</dcterms:created>
  <dc:creator>Татьяна</dc:creator>
  <dc:description/>
  <dc:language>en-US</dc:language>
  <cp:lastModifiedBy>user</cp:lastModifiedBy>
  <dcterms:modified xsi:type="dcterms:W3CDTF">2019-11-22T06:57:18Z</dcterms:modified>
  <cp:revision>33</cp:revision>
  <dc:subject/>
  <dc:title>Организация  физкультурно – оздоровительной работы во внеурочное время</dc:title>
</cp:coreProperties>
</file>